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Source: </a:t>
            </a: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Modelling the dynamics of dengue real epidem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pt-BR" sz="1200" spc="-1" strike="noStrike">
                <a:solidFill>
                  <a:srgbClr val="000000"/>
                </a:solidFill>
                <a:latin typeface="Calibri"/>
              </a:rPr>
              <a:t>28 December 2010 vol. 368 no. 1933 5679-569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http://rsta.royalsocietypublishing.org/content/368/1933/5679.fu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5F423-4100-4767-93B8-A70C276DDA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92241-AA5C-4D4F-BBDA-A00B4E2FBB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760BE-8CA8-40CC-8598-C060812082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21BF3-9B3C-4D91-A210-0C08817C1E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37A2F-36AB-403E-A0B2-3F33DB7D75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67909-B0AA-4046-9FF3-8E6ABEA074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03F4F-F138-43B4-84AD-ACAB5134AC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242E0-9634-41C7-B469-5FE99C8D1C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13064-3CEC-481B-9C06-50D6BE7D3B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75F7C-ABC0-4CAF-85EA-5C5E345DD1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49305-1427-4310-A547-07F39A50D6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1AE26-6BCD-42DB-89A4-F211B7EA1D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48FE1-B317-44D9-8FE2-9CE4366D47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AEDFB-8BA1-4CB9-9F9C-04AAD45CFF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183CB-9CA3-4CD8-8F15-79BB1AA78E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387E0-C22B-412F-9731-D67DE25395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63368-C9B2-425B-A8AF-8398FA0056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E1DC7-64C9-4B76-B963-66CA0B88FE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F9AE6-9587-48ED-8ED7-8703C18DA9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E06BC-307A-4BD2-AFD7-F2826ED0F5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1DC7D-6060-477B-A650-4C8FD50031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B5744-9EB7-4FCC-B36A-0551D97E1B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73D19-22B4-4FDE-BA1C-2B7022528D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857D6-8D1B-4368-99DB-49F3C2DBA7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0560" indent="-33336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71560" indent="-399960"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47760" indent="-318960">
              <a:spcBef>
                <a:spcPts val="601"/>
              </a:spcBef>
              <a:buClr>
                <a:srgbClr val="00007d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477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477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2105-AA69-4AB5-B11B-C5BE19E3D0BF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1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Group 6"/>
          <p:cNvGrpSpPr/>
          <p:nvPr/>
        </p:nvGrpSpPr>
        <p:grpSpPr>
          <a:xfrm>
            <a:off x="0" y="1066680"/>
            <a:ext cx="2867040" cy="3156120"/>
            <a:chOff x="0" y="1066680"/>
            <a:chExt cx="2867040" cy="3156120"/>
          </a:xfrm>
        </p:grpSpPr>
        <p:sp>
          <p:nvSpPr>
            <p:cNvPr id="48" name="Rectangle 7"/>
            <p:cNvSpPr/>
            <p:nvPr/>
          </p:nvSpPr>
          <p:spPr>
            <a:xfrm>
              <a:off x="573120" y="3582000"/>
              <a:ext cx="576000" cy="6408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Rectangle 8"/>
            <p:cNvSpPr/>
            <p:nvPr/>
          </p:nvSpPr>
          <p:spPr>
            <a:xfrm>
              <a:off x="1716120" y="1690200"/>
              <a:ext cx="574560" cy="6426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Rectangle 9"/>
            <p:cNvSpPr/>
            <p:nvPr/>
          </p:nvSpPr>
          <p:spPr>
            <a:xfrm>
              <a:off x="2281320" y="1066680"/>
              <a:ext cx="585720" cy="634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1141560" y="3582000"/>
              <a:ext cx="583920" cy="64080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11"/>
            <p:cNvSpPr/>
            <p:nvPr/>
          </p:nvSpPr>
          <p:spPr>
            <a:xfrm>
              <a:off x="2281320" y="1690200"/>
              <a:ext cx="585720" cy="6426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12"/>
            <p:cNvSpPr/>
            <p:nvPr/>
          </p:nvSpPr>
          <p:spPr>
            <a:xfrm>
              <a:off x="1141560" y="2323440"/>
              <a:ext cx="583920" cy="6328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13"/>
            <p:cNvSpPr/>
            <p:nvPr/>
          </p:nvSpPr>
          <p:spPr>
            <a:xfrm>
              <a:off x="0" y="2323440"/>
              <a:ext cx="582480" cy="6328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Rectangle 14"/>
            <p:cNvSpPr/>
            <p:nvPr/>
          </p:nvSpPr>
          <p:spPr>
            <a:xfrm>
              <a:off x="1716120" y="2323440"/>
              <a:ext cx="574560" cy="6328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15"/>
            <p:cNvSpPr/>
            <p:nvPr/>
          </p:nvSpPr>
          <p:spPr>
            <a:xfrm>
              <a:off x="573120" y="2946960"/>
              <a:ext cx="576000" cy="644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Rectangle 16"/>
            <p:cNvSpPr/>
            <p:nvPr/>
          </p:nvSpPr>
          <p:spPr>
            <a:xfrm>
              <a:off x="1141560" y="2946960"/>
              <a:ext cx="583920" cy="6440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" name="Picture 17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sldNum" idx="2"/>
          </p:nvPr>
        </p:nvSpPr>
        <p:spPr>
          <a:xfrm>
            <a:off x="8378640" y="6397200"/>
            <a:ext cx="306360" cy="30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57B4-DD4E-4F24-9334-1C4B1F7387A5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Calibri"/>
              </a:rPr>
              <a:t>Epidemics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.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ilberto Cam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ão José dos Camp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Epidemic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rcRect l="4783" t="0" r="0" b="50281"/>
          <a:stretch/>
        </p:blipFill>
        <p:spPr>
          <a:xfrm>
            <a:off x="415800" y="1266840"/>
            <a:ext cx="8691840" cy="40323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684360" y="554040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Humnst777 BT"/>
              </a:rPr>
              <a:t>“</a:t>
            </a:r>
            <a:r>
              <a:rPr b="0" i="1" lang="pt-BR" sz="1800" spc="-1" strike="noStrike">
                <a:solidFill>
                  <a:srgbClr val="000000"/>
                </a:solidFill>
                <a:latin typeface="Humnst777 BT"/>
              </a:rPr>
              <a:t>In epidemiology, an epidemic occurs when new cases of a certain disease, in a given human population, and during a given period, substantially exceed what is expected based on recent experience.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6269760" y="6496200"/>
            <a:ext cx="2718000" cy="32220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alibri"/>
              </a:rPr>
              <a:t>Source: Viboud and Chowell (NI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-17640" y="0"/>
            <a:ext cx="917928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6244200" y="6526080"/>
            <a:ext cx="2718000" cy="32220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alibri"/>
              </a:rPr>
              <a:t>Source: Viboud and Chowell (NI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900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5941440" y="6381720"/>
            <a:ext cx="3237840" cy="36828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Source: Viboud and Chowell (NI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Epidemic dynamics (SIR model)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grpSp>
        <p:nvGrpSpPr>
          <p:cNvPr id="111" name="Group 2"/>
          <p:cNvGrpSpPr/>
          <p:nvPr/>
        </p:nvGrpSpPr>
        <p:grpSpPr>
          <a:xfrm>
            <a:off x="1116000" y="2425680"/>
            <a:ext cx="7147080" cy="1940040"/>
            <a:chOff x="1116000" y="2425680"/>
            <a:chExt cx="7147080" cy="1940040"/>
          </a:xfrm>
        </p:grpSpPr>
        <p:pic>
          <p:nvPicPr>
            <p:cNvPr id="112" name="Picture 3" descr=""/>
            <p:cNvPicPr/>
            <p:nvPr/>
          </p:nvPicPr>
          <p:blipFill>
            <a:blip r:embed="rId1"/>
            <a:stretch/>
          </p:blipFill>
          <p:spPr>
            <a:xfrm>
              <a:off x="1116000" y="2425680"/>
              <a:ext cx="7147080" cy="19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Rectangle 4"/>
            <p:cNvSpPr/>
            <p:nvPr/>
          </p:nvSpPr>
          <p:spPr>
            <a:xfrm>
              <a:off x="3002040" y="2425680"/>
              <a:ext cx="576000" cy="64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5724720" y="2436480"/>
              <a:ext cx="576000" cy="64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Epidemic dynamics (SIR model)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355240" cy="472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tocks: susceptible, infected, and recove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nitial stocks:  susceptible = 9998, infected =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t = 1 we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un time = 30 wee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uration of an infection: 2 wee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ach infected comes into contact 6 with other peo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25% of the contacts are enough to cause inf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Epidemic dynamics (SIR model)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355240" cy="472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tocks: susceptible, infected, and recove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nitial stocks:  susceptible = 9998, infected =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t = 1 we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un time = 30 wee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uration of an infection: 2 wee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ach infected comes into contact 6 with other people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(but can only infect the susceptible on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25% of the contacts are enough to cause inf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Some scenario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355240" cy="472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uration of the infection: 2, 4, 8 wee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ontacts that cause infection: 50%, 25%, 12.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f the number of contacts is cut by half when the infections reach 2000 or 1000 due to an educational campaig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dro R Andrade Nt</cp:lastModifiedBy>
  <dcterms:modified xsi:type="dcterms:W3CDTF">2020-08-03T19:50:40Z</dcterms:modified>
  <cp:revision>4</cp:revision>
  <dc:subject/>
  <dc:title>Epidemics</dc:title>
</cp:coreProperties>
</file>